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4A7DD-9D74-4511-8FDA-B884D66466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735DE-ABE7-4130-9E77-4836D1D567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EBAD-B12E-4EEC-9E95-876E8B79F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DA54-2E7C-4309-A224-4820B8241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F848-5D25-4850-B7E2-19ADCE41D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D03F-F154-45E3-B858-D7E1BBCC1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A42AE-3A99-4709-8A3A-6D96A94DA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BB58A-F3F9-4711-B03F-C66545173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A2D10-2683-4039-BCCF-2D23F728B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21253-D7E3-47C3-B0A3-29BCD505F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F8F7F-D4AE-45FE-9133-D19E58041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64435-F311-4F8B-9354-32333610E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3D658-4A1E-4EB9-B554-AC2C5154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6B80-2C08-405E-A68E-8A9DE0939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9FF07-9320-4689-8EEC-D7EFB467B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A966E-4515-406D-8B61-3C1D98238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5E62C-5D9F-401F-A17B-5E628F0FE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916DA-7B82-4A82-A351-BC87FC64B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A8139-F1FC-450D-B6C7-148947CA0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AD4348-CAEF-4F7F-B0D0-B1D634674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FADAF1-F82E-4D41-84AA-53C187083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ACEA1F-75FB-4EB4-B9E1-5BDE07139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517392-88E9-46F7-892D-6CFBCB707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349B24-C187-491D-81EF-4DC0655DE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8C62-1D05-49A6-9B4A-166AC9350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78A155-D5D7-4310-8659-13337235E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968D46-6FD6-45A5-A62F-195680DE4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14E580-8218-4343-A3AF-545E02BCE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0AA7EF-E591-45AC-928C-B49A22E6B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CC9F4A-00C0-47B4-9895-1AA0F8D45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BE977D-F863-4A16-8616-31D14E7A8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870CC8-4704-40D4-AC4A-678B3501F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ECBE0-C6E7-45E0-8BFC-78141B70B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45E5A-2D79-49C4-A5E3-4653ADF3A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9A34D-85EB-4F01-BBCB-2AB15CDB8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AB35-E636-43E5-8DB2-69E2572AA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AD5E5-3602-4487-B786-27D25188F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C8ABA-48EA-4DBB-A757-3B83E59C7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CF8D2-C699-4481-8A79-0A13334F1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5284F-913B-461C-B02B-EFB0465D1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B15FD-71B2-47FC-A220-9F0919A08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17C4F0-F477-4363-BDEC-779BA77EA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B7556-393B-4016-AD9D-AC4CB8BE9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3A2B5-D009-4CC1-8C51-F18834BE6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1317C-7188-4CA4-BEBA-B0DBBE894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06F327-8347-4C2E-AF31-9F11E6AB1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C0EA-5F3C-418D-B2C6-6F6662EDE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C83A2A-4928-440F-97E3-B47324779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CAFB88-F5B4-4D9E-B463-D7192F21C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E75788-770D-44D6-9E25-9FAC0CDB9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47681F-B50B-4481-8C72-37CFF4CEB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7C4CB1-DB2C-4D1D-A4DF-B47BD5093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814227-F284-4FFE-922C-DE7F29FCD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EF5ACA-B692-4550-8DE0-8BEA71950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E2061F-9C41-4A41-9B7A-3930618C0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07DB18-970B-4E84-ADB0-D041939AF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BE4AEA-AD72-4849-8174-03F7182EC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9862-4C8B-42AD-A8F7-917B8A2FA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3CC674-1FDD-409B-8BE7-CE083EF76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F5E20A-00FA-45A0-A7BC-C265D8012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8E4345-47EA-4159-B6E5-1DBBA1EE9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19B7DB-5B0A-4EB9-B6FD-4BD6F67B4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AACF54-0D9E-4037-9357-461849525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D913DA-0522-491B-97A3-7DA9B7B46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9BC61B-9DDB-4F37-BF06-1B81C78A3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FBC798-833A-4CC7-8FE7-04A895BC0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91790A-4317-4A80-ACA1-492DE62AA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E808CC-1B6C-4B02-8500-808B1D0C1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3B94-CC1B-49BB-8F46-0A15DAAA0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546739-5E4B-4401-9D64-85E1E6D50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A67A28-EC76-43DA-836E-8BDD8CECD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34AAEE-D3C8-4D87-A490-58DC63728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841B15-CF34-4325-B789-C9F896D00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4DBB58-D3FA-42B1-8865-4B29A818B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CDC8F4-8F79-4500-88B3-3C12F929A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97179D-5423-40F3-8C6D-DD885AFDF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CD1E12-2954-404F-9157-7208E3A3F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01D8E2-186E-4B13-9550-D3FCEA293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F52883-B166-46B4-AE68-F8E935769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C5BD-EBED-44D0-AA18-AB5CC6084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40B1A7-CE71-4953-801D-77ADD83C3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8CE03F-92C8-4AF2-97D6-9CD990147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33444C-53C6-45A2-A604-2F768C0E4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F03E43-A837-4886-949B-A031D96F8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7F13FD-339A-4F60-B07A-824AA92B1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499F-54DF-4C8E-A500-665FDF5E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E967C-1084-4C91-985E-A65B31A66DA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71F22-C088-40F0-9E98-FCED9462BA7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F2F72-24EE-41FA-86A3-73683E242EA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8F5AC-41D6-4A25-BC30-E7397E47BFC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B0930-D18E-4B77-89AC-D2781A58442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63EFF-209E-40DC-B90D-D3EE42E8206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01149-4E2F-419A-B2DD-D427D05B5E3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856880" y="714240"/>
            <a:ext cx="7000920" cy="32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Century Schoolbook"/>
              </a:rPr>
              <a:t>ПСИХОЛОГИЧЕСКАЯ</a:t>
            </a:r>
            <a:br>
              <a:rPr sz="4000"/>
            </a:br>
            <a:r>
              <a:rPr b="1" lang="ru-RU" sz="4000" spc="-1" strike="noStrike">
                <a:solidFill>
                  <a:srgbClr val="00b050"/>
                </a:solidFill>
                <a:latin typeface="Century Schoolbook"/>
              </a:rPr>
              <a:t>ПОДГОТОВКА ОБУЧАЮЩИХСЯ К ГИА</a:t>
            </a:r>
            <a:br>
              <a:rPr sz="4000"/>
            </a:br>
            <a:r>
              <a:rPr b="1" lang="ru-RU" sz="2800" spc="-1" strike="noStrike">
                <a:solidFill>
                  <a:srgbClr val="00b050"/>
                </a:solidFill>
                <a:latin typeface="Century Schoolbook"/>
              </a:rPr>
              <a:t>СТРАТЕГИЯ ПОДГОТОВКИ ОБУЧАЮЩИХСЯ К ЭКЗАМЕНАМ</a:t>
            </a:r>
            <a:br>
              <a:rPr sz="2800"/>
            </a:br>
            <a:r>
              <a:rPr b="1" lang="en-US" sz="2800" spc="-1" strike="noStrike">
                <a:solidFill>
                  <a:srgbClr val="00b050"/>
                </a:solidFill>
                <a:latin typeface="Century Schoolbook"/>
              </a:rPr>
              <a:t>I </a:t>
            </a:r>
            <a:r>
              <a:rPr b="1" lang="ru-RU" sz="2800" spc="-1" strike="noStrike">
                <a:solidFill>
                  <a:srgbClr val="00b050"/>
                </a:solidFill>
                <a:latin typeface="Century Schoolbook"/>
              </a:rPr>
              <a:t>ЧАСТЬ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9" name="Picture 4" descr=""/>
          <p:cNvPicPr/>
          <p:nvPr/>
        </p:nvPicPr>
        <p:blipFill>
          <a:blip r:embed="rId1"/>
          <a:stretch/>
        </p:blipFill>
        <p:spPr>
          <a:xfrm>
            <a:off x="4214880" y="4071960"/>
            <a:ext cx="2581200" cy="22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2611c"/>
                </a:solidFill>
                <a:latin typeface="Century Schoolbook"/>
              </a:rPr>
              <a:t>ОСНОВНЫЕ ПРИНЦИПЫ ПОДГОТОВКИ К ЭКЗАМЕНАМ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287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spcBef>
                <a:spcPts val="601"/>
              </a:spcBef>
              <a:buClr>
                <a:srgbClr val="7030a0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030a0"/>
                </a:solidFill>
                <a:latin typeface="Century Schoolbook"/>
                <a:ea typeface="Arial"/>
              </a:rPr>
              <a:t>Начни с самого трудного – с того раздела, который знаешь меньше всего. Но если трудно «раскачаться», можно начать с того материала, который тебе больше интересен и приятен, который ты лучше всего знаешь. Постепенно вработаешься и дело пойдет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 algn="just">
              <a:spcBef>
                <a:spcPts val="601"/>
              </a:spcBef>
              <a:buClr>
                <a:srgbClr val="7030a0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030a0"/>
                </a:solidFill>
                <a:latin typeface="Century Schoolbook"/>
              </a:rPr>
              <a:t>Чередуй занятия и отдых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 algn="just">
              <a:spcBef>
                <a:spcPts val="601"/>
              </a:spcBef>
              <a:buClr>
                <a:srgbClr val="7030a0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030a0"/>
                </a:solidFill>
                <a:latin typeface="Century Schoolbook"/>
              </a:rPr>
              <a:t>Не надо стремиться к тому, чтобы прочитать и запомнить наизусть весь учебник. Полезно повторять материал по темам, разделам и т.д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 algn="just">
              <a:spcBef>
                <a:spcPts val="601"/>
              </a:spcBef>
              <a:buClr>
                <a:srgbClr val="7030a0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030a0"/>
                </a:solidFill>
                <a:latin typeface="Century Schoolbook"/>
              </a:rPr>
              <a:t>Также полезно структурировать материал за счет составления планов, схем, причем, желательно на бумаге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 algn="just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857160" y="928800"/>
            <a:ext cx="742968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 algn="just">
              <a:lnSpc>
                <a:spcPct val="80000"/>
              </a:lnSpc>
              <a:spcBef>
                <a:spcPts val="601"/>
              </a:spcBef>
              <a:buClr>
                <a:srgbClr val="7030a0"/>
              </a:buClr>
              <a:buSzPct val="70000"/>
              <a:buFont typeface="Century Schoolbook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entury Schoolbook"/>
              </a:rPr>
              <a:t>Выполняй как можно больше различных опубликованных тестов по предмету, который ты будешь сдавать в форме ЕГЭ и ГИА-9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04000" indent="-504000" algn="just">
              <a:lnSpc>
                <a:spcPct val="80000"/>
              </a:lnSpc>
              <a:spcBef>
                <a:spcPts val="601"/>
              </a:spcBef>
              <a:buClr>
                <a:srgbClr val="7030a0"/>
              </a:buClr>
              <a:buSzPct val="70000"/>
              <a:buFont typeface="Century Schoolbook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entury Schoolbook"/>
              </a:rPr>
              <a:t>Тренируйся с часами в руках, засекай время выполнения тестов (на задания в части А в среднем должно уходить по 2 минуты на задание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04000" indent="-504000" algn="just">
              <a:lnSpc>
                <a:spcPct val="80000"/>
              </a:lnSpc>
              <a:spcBef>
                <a:spcPts val="601"/>
              </a:spcBef>
              <a:buClr>
                <a:srgbClr val="7030a0"/>
              </a:buClr>
              <a:buSzPct val="70000"/>
              <a:buFont typeface="Century Schoolbook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entury Schoolbook"/>
              </a:rPr>
              <a:t>Готовясь к экзаменам, никогда не думай о том, что не справишься, а напротив, мысленно рисуй себе картину триумф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04000" indent="-504000" algn="just">
              <a:lnSpc>
                <a:spcPct val="80000"/>
              </a:lnSpc>
              <a:spcBef>
                <a:spcPts val="601"/>
              </a:spcBef>
              <a:buClr>
                <a:srgbClr val="7030a0"/>
              </a:buClr>
              <a:buSzPct val="70000"/>
              <a:buFont typeface="Century Schoolbook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entury Schoolbook"/>
              </a:rPr>
              <a:t>Оставь один день перед экзаменом, чтобы вновь повторить все темы (разделы) с помощью планов, еще раз останавливаясь подробнее на самых       трудных вопросах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04000" indent="-504000" algn="just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10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100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1000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1000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28400" y="428400"/>
            <a:ext cx="8072280" cy="19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15501"/>
                </a:solidFill>
                <a:latin typeface="Century Schoolbook"/>
              </a:rPr>
              <a:t>ГАРМОНИЗАЦИЯ ЭМОЦИОНАЛЬНОГО СОСТОЯНИЯ ПЕРЕД ЭКЗАМЕНОМ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500040" y="2571840"/>
            <a:ext cx="807264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buClr>
                <a:srgbClr val="7030a0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7030a0"/>
                </a:solidFill>
                <a:latin typeface="Century Schoolbook"/>
              </a:rPr>
              <a:t> </a:t>
            </a:r>
            <a:r>
              <a:rPr b="0" lang="ru-RU" sz="2100" spc="-1" strike="noStrike">
                <a:solidFill>
                  <a:srgbClr val="7030a0"/>
                </a:solidFill>
                <a:latin typeface="Century Schoolbook"/>
                <a:ea typeface="Arial"/>
              </a:rPr>
              <a:t>В день экзамена выполните </a:t>
            </a:r>
            <a:r>
              <a:rPr b="0" lang="ru-RU" sz="2100" spc="-1" strike="noStrike" u="sng">
                <a:solidFill>
                  <a:srgbClr val="7030a0"/>
                </a:solidFill>
                <a:uFillTx/>
                <a:latin typeface="Century Schoolbook"/>
                <a:ea typeface="Arial"/>
              </a:rPr>
              <a:t>упражнение «Прогулка», </a:t>
            </a:r>
            <a:r>
              <a:rPr b="0" lang="ru-RU" sz="2100" spc="-1" strike="noStrike">
                <a:solidFill>
                  <a:srgbClr val="7030a0"/>
                </a:solidFill>
                <a:latin typeface="Century Schoolbook"/>
                <a:ea typeface="Arial"/>
              </a:rPr>
              <a:t>которое позволит вам снять эмоциональное напряжение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7030a0"/>
                </a:solidFill>
                <a:latin typeface="Century Schoolbook"/>
                <a:ea typeface="Arial"/>
              </a:rPr>
              <a:t>	</a:t>
            </a:r>
            <a:r>
              <a:rPr b="0" lang="ru-RU" sz="2100" spc="-1" strike="noStrike">
                <a:solidFill>
                  <a:srgbClr val="7030a0"/>
                </a:solidFill>
                <a:latin typeface="Century Schoolbook"/>
                <a:ea typeface="Arial"/>
              </a:rPr>
              <a:t>"Вспомните или придумайте место, где вы чувствовали бы себя в безопасности, и вам было бы хорошо и спокойно. Это может быть картина цветущего луга, берег моря, поляны в лесу, освещенной теплым летним солнцем, и т. д. Представьте себе, что вы находитесь именно в этом месте. Ощутите запахи, прислушайтесь к шелесту травы или шуму волн, посмотрите вокруг, прикоснитесь к теплой поверхности песка или шершавому стволу сосны. Постарайтесь представить это как можно более четко, в мельчайших деталях"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357120" y="285840"/>
            <a:ext cx="842976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71600" indent="-471600" algn="just">
              <a:lnSpc>
                <a:spcPct val="120000"/>
              </a:lnSpc>
              <a:buClr>
                <a:srgbClr val="7030a0"/>
              </a:buClr>
              <a:buSzPct val="70000"/>
              <a:buFont typeface="Century Schoolbook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entury Schoolbook"/>
              </a:rPr>
              <a:t>Сделайте с утра следующие противострессовые упражнения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471600" indent="-4716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7030a0"/>
                </a:solidFill>
                <a:uFillTx/>
                <a:latin typeface="Century Schoolbook"/>
              </a:rPr>
              <a:t>Упражнение № 1 «Ха - дыхание"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471600" indent="-4716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entury Schoolbook"/>
              </a:rPr>
              <a:t>Исходная поза - стоя, ноги на ширине плеч, руки опущены вдоль туловища. Одновременно с глубоким вдохом (по типу полного дыхания) руки медленно через стороны поднимаются вверх над головой. После этого дыхание задерживается. Затем корпус резко наклоняется вперед, руки сбрасываются вниз перед собой, и одновременно через рот делается массированный выдох. За счёт быстрого и полного выброса воздуха воспроизводится звук "ХА"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471600" indent="-4716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entury Schoolbook"/>
              </a:rPr>
              <a:t>Упражнение повторяется 2-3 раза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471600" indent="-4716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7030a0"/>
                </a:solidFill>
                <a:uFillTx/>
                <a:latin typeface="Century Schoolbook"/>
              </a:rPr>
              <a:t> </a:t>
            </a:r>
            <a:r>
              <a:rPr b="1" lang="ru-RU" sz="1800" spc="-1" strike="noStrike" u="sng">
                <a:solidFill>
                  <a:srgbClr val="7030a0"/>
                </a:solidFill>
                <a:uFillTx/>
                <a:latin typeface="Century Schoolbook"/>
              </a:rPr>
              <a:t>Упражнение № 2 «Резкий выдох сидя"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471600" indent="-4716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entury Schoolbook"/>
              </a:rPr>
              <a:t> </a:t>
            </a:r>
            <a:r>
              <a:rPr b="1" lang="ru-RU" sz="1800" spc="-1" strike="noStrike">
                <a:solidFill>
                  <a:srgbClr val="7030a0"/>
                </a:solidFill>
                <a:latin typeface="Century Schoolbook"/>
              </a:rPr>
              <a:t>Исходная поза - сидя, корпус выпрямлен, руки на коленях. На медленный вдох руки сцепляются в "замок", выворачиваются ладонями вперёд и вытягиваются над головой. При поднятых руках, высоко оттянутых вверх, осуществляется задержка дыхания. Затем вместе со сбрасыванием напряжения с плеч (корпус наклоняется вперёд, спина сгибается) производится резкий выдох через рот, руки падают на колени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471600" indent="-4716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entury Schoolbook"/>
              </a:rPr>
              <a:t>    </a:t>
            </a:r>
            <a:r>
              <a:rPr b="1" lang="ru-RU" sz="1800" spc="-1" strike="noStrike">
                <a:solidFill>
                  <a:srgbClr val="7030a0"/>
                </a:solidFill>
                <a:latin typeface="Century Schoolbook"/>
              </a:rPr>
              <a:t>Упражнение повторяется 2-3 раза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471600" indent="-471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ccff"/>
                </a:solidFill>
                <a:latin typeface="Century Schoolbook"/>
              </a:rPr>
              <a:t>УДАЧИ!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0" name="Содержимое 4" descr="ege-7"/>
          <p:cNvPicPr/>
          <p:nvPr/>
        </p:nvPicPr>
        <p:blipFill>
          <a:blip r:embed="rId1"/>
          <a:stretch/>
        </p:blipFill>
        <p:spPr>
          <a:xfrm>
            <a:off x="2643120" y="1857240"/>
            <a:ext cx="331308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2560" y="-360"/>
            <a:ext cx="864396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1" lang="ru-RU" sz="4000" spc="-1" strike="noStrike">
                <a:solidFill>
                  <a:srgbClr val="d15501"/>
                </a:solidFill>
                <a:latin typeface="Century Schoolbook"/>
              </a:rPr>
              <a:t>СТРАТЕГИЯ ПОДГОТОВКИ </a:t>
            </a:r>
            <a:br>
              <a:rPr sz="4000"/>
            </a:br>
            <a:r>
              <a:rPr b="1" lang="ru-RU" sz="4000" spc="-1" strike="noStrike">
                <a:solidFill>
                  <a:srgbClr val="d15501"/>
                </a:solidFill>
                <a:latin typeface="Century Schoolbook"/>
              </a:rPr>
              <a:t>К ЭКЗАМЕНАМ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1" name="Picture 2" descr=""/>
          <p:cNvPicPr/>
          <p:nvPr/>
        </p:nvPicPr>
        <p:blipFill>
          <a:blip r:embed="rId1"/>
          <a:stretch/>
        </p:blipFill>
        <p:spPr>
          <a:xfrm>
            <a:off x="395280" y="5572080"/>
            <a:ext cx="833400" cy="982800"/>
          </a:xfrm>
          <a:prstGeom prst="rect">
            <a:avLst/>
          </a:prstGeom>
          <a:ln w="0">
            <a:noFill/>
          </a:ln>
        </p:spPr>
      </p:pic>
      <p:sp>
        <p:nvSpPr>
          <p:cNvPr id="362" name="TextBox 4"/>
          <p:cNvSpPr/>
          <p:nvPr/>
        </p:nvSpPr>
        <p:spPr>
          <a:xfrm>
            <a:off x="1476360" y="1989000"/>
            <a:ext cx="640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TextBox 6"/>
          <p:cNvSpPr/>
          <p:nvPr/>
        </p:nvSpPr>
        <p:spPr>
          <a:xfrm>
            <a:off x="428760" y="1500120"/>
            <a:ext cx="7893000" cy="44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entury Schoolbook"/>
              </a:rPr>
              <a:t>-Подготовка рабочего места для занятий.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entury Schoolbook"/>
              </a:rPr>
              <a:t>-Составление плана подготовки.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entury Schoolbook"/>
              </a:rPr>
              <a:t>-Приемы осмысленной работы с текстами.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entury Schoolbook"/>
              </a:rPr>
              <a:t>-Основные принципы подготовки к экзаменам.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entury Schoolbook"/>
              </a:rPr>
              <a:t>-Гармонизация эмоционального состояния перед экзаменом</a:t>
            </a:r>
            <a:r>
              <a:rPr b="1" lang="ru-RU" sz="2800" spc="-1" strike="noStrike">
                <a:solidFill>
                  <a:srgbClr val="7030a0"/>
                </a:solidFill>
                <a:latin typeface="Comic Sans MS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2611c"/>
                </a:solidFill>
                <a:latin typeface="Century Schoolbook"/>
              </a:rPr>
              <a:t>ПОДГОТОВКА РАБОЧЕГО МЕСТА </a:t>
            </a:r>
            <a:br>
              <a:rPr sz="4000"/>
            </a:br>
            <a:r>
              <a:rPr b="1" lang="ru-RU" sz="4000" spc="-1" strike="noStrike">
                <a:solidFill>
                  <a:srgbClr val="d2611c"/>
                </a:solidFill>
                <a:latin typeface="Century Schoolbook"/>
              </a:rPr>
              <a:t>ДЛЯ ЗАНЯТИЙ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85800" y="2142720"/>
            <a:ext cx="7696080" cy="33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 algn="just"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7030a0"/>
                </a:solidFill>
                <a:latin typeface="Century Schoolbook"/>
              </a:rPr>
              <a:t>Сначала подготовь место для занятий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1440" indent="-271440" algn="just"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7030a0"/>
                </a:solidFill>
                <a:latin typeface="Century Schoolbook"/>
              </a:rPr>
              <a:t>Можно ввести в интерьер комнаты желтый или фиолетовый цвета, поскольку они повышают интеллектуальную активность, создают положительный эмоциональный настрой. Для этого бывает достаточно картинки или предмета в таких тонах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420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2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2611c"/>
                </a:solidFill>
                <a:latin typeface="Century Schoolbook"/>
              </a:rPr>
              <a:t>СОСТАВЛЕНИЕ ПЛАНА ПОДГОТОВКИ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6840" y="1600200"/>
            <a:ext cx="825804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entury Schoolbook"/>
              </a:rPr>
              <a:t>Составь план подготовки. Для начала хорошо определить, кто ты – «СОВА» или «ЖАВОРОНОК», и, в зависимости от этого, максимально загрузить утренние или, напротив, вечерние час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entury Schoolbook"/>
              </a:rPr>
              <a:t>Учти, что продуктивность запоминания меняется в течение дня. </a:t>
            </a:r>
            <a:r>
              <a:rPr b="1" lang="ru-RU" sz="2400" spc="-1" strike="noStrike">
                <a:solidFill>
                  <a:srgbClr val="7030a0"/>
                </a:solidFill>
                <a:latin typeface="Century Schoolbook"/>
              </a:rPr>
              <a:t>Память наиболее цепкая и острая между 8 и 12 часами. </a:t>
            </a:r>
            <a:r>
              <a:rPr b="0" lang="ru-RU" sz="2400" spc="-1" strike="noStrike">
                <a:solidFill>
                  <a:srgbClr val="7030a0"/>
                </a:solidFill>
                <a:latin typeface="Century Schoolbook"/>
              </a:rPr>
              <a:t>Затем продуктивность запоминания постепенно снижается, а </a:t>
            </a:r>
            <a:r>
              <a:rPr b="1" lang="ru-RU" sz="2400" spc="-1" strike="noStrike">
                <a:solidFill>
                  <a:srgbClr val="7030a0"/>
                </a:solidFill>
                <a:latin typeface="Century Schoolbook"/>
              </a:rPr>
              <a:t>с 17 часов снова медленно растет </a:t>
            </a:r>
            <a:r>
              <a:rPr b="0" lang="ru-RU" sz="2400" spc="-1" strike="noStrike">
                <a:solidFill>
                  <a:srgbClr val="7030a0"/>
                </a:solidFill>
                <a:latin typeface="Century Schoolbook"/>
              </a:rPr>
              <a:t>и при отсутствии значительного утомления </a:t>
            </a:r>
            <a:r>
              <a:rPr b="1" lang="ru-RU" sz="2400" spc="-1" strike="noStrike">
                <a:solidFill>
                  <a:srgbClr val="7030a0"/>
                </a:solidFill>
                <a:latin typeface="Century Schoolbook"/>
              </a:rPr>
              <a:t>достигает высокого уровня в вечернее время (примерно к 19 часам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20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20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85480" y="1714680"/>
            <a:ext cx="8429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Schoolbook"/>
              </a:rPr>
              <a:t>ПРИЕМЫ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entury Schoolbook"/>
              </a:rPr>
              <a:t>ОСМЫСЛЕННОЙ РАБОТЫ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entury Schoolbook"/>
              </a:rPr>
              <a:t>С ТЕКСТАМИ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428760" y="142560"/>
            <a:ext cx="828648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1080" indent="-451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030a0"/>
                </a:solidFill>
                <a:latin typeface="Century Schoolbook"/>
              </a:rPr>
              <a:t>	</a:t>
            </a:r>
            <a:r>
              <a:rPr b="1" lang="ru-RU" sz="2200" spc="-1" strike="noStrike">
                <a:solidFill>
                  <a:srgbClr val="7030a0"/>
                </a:solidFill>
                <a:latin typeface="Century Schoolbook"/>
              </a:rPr>
              <a:t>1. При заучивании необходимого материала используйте раскрытый психологами секрет магической «семерки» </a:t>
            </a:r>
            <a:r>
              <a:rPr b="0" lang="ru-RU" sz="2200" spc="-1" strike="noStrike">
                <a:solidFill>
                  <a:srgbClr val="7030a0"/>
                </a:solidFill>
                <a:latin typeface="Century Schoolbook"/>
              </a:rPr>
              <a:t>(семеро одного не ждут</a:t>
            </a:r>
            <a:r>
              <a:rPr b="0" lang="en-US" sz="2200" spc="-1" strike="noStrike">
                <a:solidFill>
                  <a:srgbClr val="7030a0"/>
                </a:solidFill>
                <a:latin typeface="Century Schoolbook"/>
              </a:rPr>
              <a:t>;</a:t>
            </a:r>
            <a:r>
              <a:rPr b="0" lang="ru-RU" sz="2200" spc="-1" strike="noStrike">
                <a:solidFill>
                  <a:srgbClr val="7030a0"/>
                </a:solidFill>
                <a:latin typeface="Century Schoolbook"/>
              </a:rPr>
              <a:t> семь раз отмерь – один раз отрежь и т.д.). Оказывается, таков в среднем объем нашей оперативной памяти. При одновременном восприятии она способна удержать и затем воспроизвести в среднем  лишь семь объектов. При этом, семь букв запоминаются не легче, чем семь слов и даже семь фраз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451080" indent="-451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030a0"/>
                </a:solidFill>
                <a:latin typeface="Century Schoolbook"/>
              </a:rPr>
              <a:t>	</a:t>
            </a:r>
            <a:r>
              <a:rPr b="0" lang="ru-RU" sz="2200" spc="-1" strike="noStrike">
                <a:solidFill>
                  <a:srgbClr val="7030a0"/>
                </a:solidFill>
                <a:latin typeface="Century Schoolbook"/>
              </a:rPr>
              <a:t>Следовательно</a:t>
            </a:r>
            <a:r>
              <a:rPr b="1" lang="ru-RU" sz="2200" spc="-1" strike="noStrike">
                <a:solidFill>
                  <a:srgbClr val="7030a0"/>
                </a:solidFill>
                <a:latin typeface="Century Schoolbook"/>
              </a:rPr>
              <a:t>, подлежащий заучиванию материал необходимо разбить на смысловые куски, стараясь, чтобы их количество не превышало семи. </a:t>
            </a:r>
            <a:r>
              <a:rPr b="0" lang="ru-RU" sz="2200" spc="-1" strike="noStrike">
                <a:solidFill>
                  <a:srgbClr val="7030a0"/>
                </a:solidFill>
                <a:latin typeface="Century Schoolbook"/>
              </a:rPr>
              <a:t>Кроме того, смысловые куски материала необходимо укрупнять и обобщать, выражая главную мысль одной фразой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451080" indent="-451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030a0"/>
                </a:solidFill>
                <a:latin typeface="Century Schoolbook"/>
              </a:rPr>
              <a:t>	</a:t>
            </a:r>
            <a:r>
              <a:rPr b="0" lang="ru-RU" sz="2200" spc="-1" strike="noStrike">
                <a:solidFill>
                  <a:srgbClr val="7030a0"/>
                </a:solidFill>
                <a:latin typeface="Century Schoolbook"/>
              </a:rPr>
              <a:t>Важно знать, что для запоминания  и одного предложения, и одной          мысли, в которой заключен смысл двухстраничного текста, требуется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451080" indent="-451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030a0"/>
                </a:solidFill>
                <a:latin typeface="Century Schoolbook"/>
              </a:rPr>
              <a:t>сравнительно одинаковый объем памяти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500040" y="285480"/>
            <a:ext cx="821520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entury Schoolbook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entury Schoolbook"/>
                <a:ea typeface="Arial"/>
              </a:rPr>
              <a:t>2. Используйте методы активного запоминан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buClr>
                <a:srgbClr val="7030a0"/>
              </a:buClr>
              <a:buSzPct val="70000"/>
              <a:buFont typeface="Calibri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7030a0"/>
                </a:solidFill>
                <a:uFillTx/>
                <a:latin typeface="Century Schoolbook"/>
                <a:ea typeface="Arial"/>
              </a:rPr>
              <a:t>Метод ключевых слов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entury Schoolbook"/>
                <a:ea typeface="Arial"/>
              </a:rPr>
              <a:t>	</a:t>
            </a:r>
            <a:r>
              <a:rPr b="0" lang="ru-RU" sz="2400" spc="-1" strike="noStrike">
                <a:solidFill>
                  <a:srgbClr val="7030a0"/>
                </a:solidFill>
                <a:latin typeface="Century Schoolbook"/>
                <a:ea typeface="Arial"/>
              </a:rPr>
              <a:t>Что такое ключевое слово</a:t>
            </a:r>
            <a:r>
              <a:rPr b="0" lang="en-US" sz="2400" spc="-1" strike="noStrike">
                <a:solidFill>
                  <a:srgbClr val="7030a0"/>
                </a:solidFill>
                <a:latin typeface="Century Schoolbook"/>
                <a:ea typeface="Arial"/>
              </a:rPr>
              <a:t>? </a:t>
            </a:r>
            <a:r>
              <a:rPr b="0" lang="ru-RU" sz="2400" spc="-1" strike="noStrike">
                <a:solidFill>
                  <a:srgbClr val="7030a0"/>
                </a:solidFill>
                <a:latin typeface="Century Schoolbook"/>
                <a:ea typeface="Arial"/>
              </a:rPr>
              <a:t>Это своеобразный «узел», связывающий хранящуюся в памяти информацию с нашим непосредственным сознанием и позволяющий нам ее воспроизвести. Для запоминания какой-либо фразы достаточно выделить 1-2 главных (ключевых) слова и запомнить их. В дальнейшем, если вспомнить эти слова, то вспомнится и вся фраза. Этот метод можно применить и при запоминании больших по объему текстов, составляя цепочку ключевых слов, следующих друг за другом и связанных между собой.            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500040" y="428400"/>
            <a:ext cx="807264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 algn="just">
              <a:lnSpc>
                <a:spcPct val="90000"/>
              </a:lnSpc>
              <a:buClr>
                <a:srgbClr val="7030a0"/>
              </a:buClr>
              <a:buSzPct val="70000"/>
              <a:buFont typeface="Calibri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 u="sng">
                <a:solidFill>
                  <a:srgbClr val="7030a0"/>
                </a:solidFill>
                <a:uFillTx/>
                <a:latin typeface="Century Schoolbook"/>
                <a:ea typeface="Arial"/>
              </a:rPr>
              <a:t>Повторение материала по вопросам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1440" indent="-27144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7030a0"/>
                </a:solidFill>
                <a:latin typeface="Century Schoolbook"/>
                <a:ea typeface="Arial"/>
              </a:rPr>
              <a:t>	</a:t>
            </a:r>
            <a:r>
              <a:rPr b="0" lang="ru-RU" sz="2200" spc="-1" strike="noStrike">
                <a:solidFill>
                  <a:srgbClr val="7030a0"/>
                </a:solidFill>
                <a:latin typeface="Century Schoolbook"/>
                <a:ea typeface="Arial"/>
              </a:rPr>
              <a:t>Вначале вспомни и обязательно кратко запиши все, что знаешь, и лишь затем проверь правильность дат, основных фактов. Читая учебник, выделяй главные мысли – это опорные пункты ответа. Научись составлять краткий план ответа отдельно на каждый вопрос на маленьких листочках. В последний день перед экзаменом просмотри листочки с кратким планом ответа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1440" indent="-271440" algn="just">
              <a:lnSpc>
                <a:spcPct val="90000"/>
              </a:lnSpc>
              <a:buClr>
                <a:srgbClr val="7030a0"/>
              </a:buClr>
              <a:buSzPct val="70000"/>
              <a:buFont typeface="Calibri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 u="sng">
                <a:solidFill>
                  <a:srgbClr val="7030a0"/>
                </a:solidFill>
                <a:uFillTx/>
                <a:latin typeface="Century Schoolbook"/>
                <a:ea typeface="Arial"/>
              </a:rPr>
              <a:t>Приемы зрительной памяти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1440" indent="-27144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030a0"/>
                </a:solidFill>
                <a:latin typeface="Century Schoolbook"/>
                <a:ea typeface="Arial"/>
              </a:rPr>
              <a:t>	</a:t>
            </a:r>
            <a:r>
              <a:rPr b="0" lang="ru-RU" sz="2200" spc="-1" strike="noStrike">
                <a:solidFill>
                  <a:srgbClr val="7030a0"/>
                </a:solidFill>
                <a:latin typeface="Century Schoolbook"/>
                <a:ea typeface="Arial"/>
              </a:rPr>
              <a:t>а) мысленно представь предмет, который хочешь запомнить. «Раскрась» его необычным цветом или представь его огромного размера, «поверни» этот предмет и посмотри на него с разных сторон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1440" indent="-27144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030a0"/>
                </a:solidFill>
                <a:latin typeface="Century Schoolbook"/>
                <a:ea typeface="Arial"/>
              </a:rPr>
              <a:t>	</a:t>
            </a:r>
            <a:r>
              <a:rPr b="0" lang="ru-RU" sz="2200" spc="-1" strike="noStrike">
                <a:solidFill>
                  <a:srgbClr val="7030a0"/>
                </a:solidFill>
                <a:latin typeface="Century Schoolbook"/>
                <a:ea typeface="Arial"/>
              </a:rPr>
              <a:t> </a:t>
            </a:r>
            <a:r>
              <a:rPr b="0" lang="ru-RU" sz="2200" spc="-1" strike="noStrike">
                <a:solidFill>
                  <a:srgbClr val="7030a0"/>
                </a:solidFill>
                <a:latin typeface="Century Schoolbook"/>
                <a:ea typeface="Arial"/>
              </a:rPr>
              <a:t>б) запоминание чисел (например, исторических дат). Представь себе, что число, которое вам необходимо запомнить, написано крупным красным шрифтом на белой стене. Заставь эту надпись мигать 15 секунд в вашем воображении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28760" y="214200"/>
            <a:ext cx="82152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 algn="just">
              <a:lnSpc>
                <a:spcPct val="80000"/>
              </a:lnSpc>
              <a:buClr>
                <a:srgbClr val="7030a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1440" indent="-27144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Century Schoolbook"/>
              </a:rPr>
              <a:t>3. Ознакомьтесь и применяйте следующие приемы работы с запоминаемым материалом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1440" indent="-271440" algn="just">
              <a:lnSpc>
                <a:spcPct val="80000"/>
              </a:lnSpc>
              <a:buClr>
                <a:srgbClr val="7030a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1440" indent="-271440" algn="just">
              <a:lnSpc>
                <a:spcPct val="80000"/>
              </a:lnSpc>
              <a:buClr>
                <a:srgbClr val="7030a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Century Schoolbook"/>
              </a:rPr>
              <a:t>Группировка</a:t>
            </a:r>
            <a:r>
              <a:rPr b="0" lang="ru-RU" sz="1800" spc="-1" strike="noStrike">
                <a:solidFill>
                  <a:srgbClr val="7030a0"/>
                </a:solidFill>
                <a:latin typeface="Century Schoolbook"/>
              </a:rPr>
              <a:t> — разбивка материала на группы по каким-либо основаниям (смыслу, ассоциациям и т. п.)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1440" indent="-271440" algn="just">
              <a:lnSpc>
                <a:spcPct val="80000"/>
              </a:lnSpc>
              <a:buClr>
                <a:srgbClr val="7030a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Century Schoolbook"/>
              </a:rPr>
              <a:t>Выделение опорных пунктов</a:t>
            </a:r>
            <a:r>
              <a:rPr b="0" lang="ru-RU" sz="1800" spc="-1" strike="noStrike">
                <a:solidFill>
                  <a:srgbClr val="7030a0"/>
                </a:solidFill>
                <a:latin typeface="Century Schoolbook"/>
              </a:rPr>
              <a:t> — фиксация какого-либо краткого пункта, служащего опорой более широкого содержания (тезисы, заглавие, вопросы к тексту, примеры, шифровые данные, сравнения и т. п.)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1440" indent="-271440" algn="just">
              <a:lnSpc>
                <a:spcPct val="80000"/>
              </a:lnSpc>
              <a:buClr>
                <a:srgbClr val="7030a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Century Schoolbook"/>
              </a:rPr>
              <a:t>План</a:t>
            </a:r>
            <a:r>
              <a:rPr b="1" lang="ru-RU" sz="1800" spc="-1" strike="noStrike">
                <a:solidFill>
                  <a:srgbClr val="7030a0"/>
                </a:solidFill>
                <a:latin typeface="Century Schoolbook"/>
              </a:rPr>
              <a:t> </a:t>
            </a:r>
            <a:r>
              <a:rPr b="0" lang="ru-RU" sz="1800" spc="-1" strike="noStrike">
                <a:solidFill>
                  <a:srgbClr val="7030a0"/>
                </a:solidFill>
                <a:latin typeface="Century Schoolbook"/>
              </a:rPr>
              <a:t>— совокупность опорных пунктов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1440" indent="-271440" algn="just">
              <a:lnSpc>
                <a:spcPct val="80000"/>
              </a:lnSpc>
              <a:buClr>
                <a:srgbClr val="7030a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Century Schoolbook"/>
              </a:rPr>
              <a:t>Классификация</a:t>
            </a:r>
            <a:r>
              <a:rPr b="1" lang="ru-RU" sz="1800" spc="-1" strike="noStrike">
                <a:solidFill>
                  <a:srgbClr val="7030a0"/>
                </a:solidFill>
                <a:latin typeface="Century Schoolbook"/>
              </a:rPr>
              <a:t> </a:t>
            </a:r>
            <a:r>
              <a:rPr b="0" lang="ru-RU" sz="1800" spc="-1" strike="noStrike">
                <a:solidFill>
                  <a:srgbClr val="7030a0"/>
                </a:solidFill>
                <a:latin typeface="Century Schoolbook"/>
              </a:rPr>
              <a:t>- распределение каких-либо предметов, явлений, понятий по классам, группам, разрядам на основе определенных общих признаков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1440" indent="-271440" algn="just">
              <a:lnSpc>
                <a:spcPct val="80000"/>
              </a:lnSpc>
              <a:buClr>
                <a:srgbClr val="7030a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Century Schoolbook"/>
              </a:rPr>
              <a:t>Структурирование</a:t>
            </a:r>
            <a:r>
              <a:rPr b="1" lang="ru-RU" sz="1800" spc="-1" strike="noStrike">
                <a:solidFill>
                  <a:srgbClr val="7030a0"/>
                </a:solidFill>
                <a:latin typeface="Century Schoolbook"/>
              </a:rPr>
              <a:t> </a:t>
            </a:r>
            <a:r>
              <a:rPr b="0" lang="ru-RU" sz="1800" spc="-1" strike="noStrike">
                <a:solidFill>
                  <a:srgbClr val="7030a0"/>
                </a:solidFill>
                <a:latin typeface="Century Schoolbook"/>
              </a:rPr>
              <a:t>— установление взаимного расположения частей, составляющих целое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1440" indent="-271440" algn="just">
              <a:lnSpc>
                <a:spcPct val="80000"/>
              </a:lnSpc>
              <a:buClr>
                <a:srgbClr val="7030a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Century Schoolbook"/>
              </a:rPr>
              <a:t>Схематизация (построение графических схем)</a:t>
            </a:r>
            <a:r>
              <a:rPr b="0" lang="ru-RU" sz="1800" spc="-1" strike="noStrike">
                <a:solidFill>
                  <a:srgbClr val="7030a0"/>
                </a:solidFill>
                <a:latin typeface="Century Schoolbook"/>
              </a:rPr>
              <a:t> — изображение или описание чего-либо в основных чертах или упрощенное представление запоминаемой информации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1440" indent="-271440" algn="just">
              <a:lnSpc>
                <a:spcPct val="80000"/>
              </a:lnSpc>
              <a:buClr>
                <a:srgbClr val="7030a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Century Schoolbook"/>
              </a:rPr>
              <a:t>Серийная организация материала</a:t>
            </a:r>
            <a:r>
              <a:rPr b="0" lang="ru-RU" sz="1800" spc="-1" strike="noStrike">
                <a:solidFill>
                  <a:srgbClr val="7030a0"/>
                </a:solidFill>
                <a:latin typeface="Century Schoolbook"/>
              </a:rPr>
              <a:t> — установление или построение различных последовательностей: распределение по объему, распределение по времени, упорядочивание в пространстве и т. д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1440" indent="-271440" algn="just">
              <a:lnSpc>
                <a:spcPct val="80000"/>
              </a:lnSpc>
              <a:buClr>
                <a:srgbClr val="7030a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Century Schoolbook"/>
              </a:rPr>
              <a:t>Ассоциации</a:t>
            </a:r>
            <a:r>
              <a:rPr b="1" lang="ru-RU" sz="1800" spc="-1" strike="noStrike">
                <a:solidFill>
                  <a:srgbClr val="7030a0"/>
                </a:solidFill>
                <a:latin typeface="Century Schoolbook"/>
              </a:rPr>
              <a:t> </a:t>
            </a:r>
            <a:r>
              <a:rPr b="0" lang="ru-RU" sz="1800" spc="-1" strike="noStrike">
                <a:solidFill>
                  <a:srgbClr val="7030a0"/>
                </a:solidFill>
                <a:latin typeface="Century Schoolbook"/>
              </a:rPr>
              <a:t>— установление связей по сходству, смежности или противоположности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1440" indent="-27144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1440" indent="-27144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7030a0"/>
                </a:solidFill>
                <a:latin typeface="Century Schoolbook"/>
              </a:rPr>
              <a:t>Возьми текст  из школьного учебника и попробуй применить к нему все вышеуказанные приемы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1440" indent="-271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4T05:58:35Z</dcterms:created>
  <dc:creator>Александра Веснина</dc:creator>
  <dc:description/>
  <dc:language>en-US</dc:language>
  <cp:lastModifiedBy>ЮрковаИА</cp:lastModifiedBy>
  <dcterms:modified xsi:type="dcterms:W3CDTF">2017-05-01T08:56:14Z</dcterms:modified>
  <cp:revision>417</cp:revision>
  <dc:subject/>
  <dc:title>Психологическая подготовка учащихся к экзаменам (ЭГЭ)</dc:title>
</cp:coreProperties>
</file>