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7.jpeg" ContentType="image/jpeg"/>
  <Override PartName="/ppt/media/image3.png" ContentType="image/png"/>
  <Override PartName="/ppt/media/image11.png" ContentType="image/png"/>
  <Override PartName="/ppt/media/image46.png" ContentType="image/png"/>
  <Override PartName="/ppt/media/image25.png" ContentType="image/png"/>
  <Override PartName="/ppt/media/image19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34.png" ContentType="image/png"/>
  <Override PartName="/ppt/media/image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png" ContentType="image/png"/>
  <Override PartName="/ppt/media/image6.jpeg" ContentType="image/jpeg"/>
  <Override PartName="/ppt/media/image31.png" ContentType="image/png"/>
  <Override PartName="/ppt/media/image47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8D98-C906-41BE-AB1D-0C3EADC08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66B-DF63-40A0-950B-A4FCE6E84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509-6866-4D13-B7BA-1DD5F76E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2FC-512F-46CA-877D-604D9E56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6875E-1BF9-4B42-8FE6-B3540366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98897-2D07-4052-8646-E6BD015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8F28C-0130-4A7E-9B7B-E86C113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ECD02-2E31-4945-9747-BED1D5FF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1D93A-0885-4D7E-84F8-9FF7D5F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FECC2-FCCA-41D9-89C4-242FD4F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2CE18-7B5A-4A05-950B-7191BFD4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34F50-C1DE-4568-83DA-9F97910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AB989-3751-4B39-B8A7-8C219616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A11-B944-4D88-B382-675B8A6D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A5B-4A2C-4DCA-8759-A86A279E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1D9-E5AB-44AF-9DA7-535A5BEB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0CC3-6944-4802-A8D6-6C6E1B0E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BC46-E2FC-47C0-84E0-15081EAF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CB31-2E3E-4149-905A-2C93925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0862-19F4-4D34-86AE-288D7E6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6675-E1F4-43C7-85BC-C40C65A8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1948-CAFE-4CD8-ABF7-2BA5E60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2F6-926A-4329-9DC3-B9DDFDF5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9F60-8E82-4C48-B9F2-2AA1EE7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9A8-9855-48AD-B1BE-11DE835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D319-BA90-46C2-A302-88560299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0A27-E58F-4CC5-8BBC-7C7C6AFA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379-E8D2-4377-ACF0-B361B0B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0B1E-3E6A-41DF-8271-5FB41D50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A27C-63BA-49F8-B14C-044089D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D56C-A595-4D90-B693-515B1FB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160C-D1A8-4D0B-98C8-D2101748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A9C7-90F8-4F88-BAE8-A06223D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18A-E9EA-4EB4-8B7F-5BC22296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D043-7615-4D19-BDE5-FBBEB5D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5DE0-39F2-46D5-81E5-9B62047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854B-E958-411F-8D36-5FD0C06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4E34-830E-4F11-AB93-BFDE89F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B814-EE39-4E8A-ABBD-0509041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C780-2BDC-4F72-A3C3-D27FB09F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8274-A012-4BDE-8492-D323E206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CB2B-BDDA-44B5-8208-5662A4AA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2075-A493-4C59-AA95-A65C020F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4F6B3-4775-4768-8546-37E4BD0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EBA-2E00-4C25-BF69-8F6404B2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AA7D-C0A2-45A0-ABAD-1FD7D17F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5CA7-2359-4872-AE17-C937B217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D617-DC93-4631-80AC-9C30CC3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A1834-3466-494C-AA4F-63256288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2D95-93AC-43C7-99C0-205380BB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5AB3-70DE-45EC-B3D6-A668CC7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21FE-7991-4981-AECD-46256C3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9D59-0616-44E6-AF12-6A0B0CA6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AC34-5DB8-451D-8C1E-3B92E5FE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DCA3-7DFB-4599-92D1-5ADFD656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81E-AB31-47A6-9F71-7B6B0AE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9DAA3-C9D8-4011-812C-2174D05D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5942-AC00-4C32-A6C2-2C929D1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DAD9-755C-4803-A53D-BFD8576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62311-ECC1-414F-9573-3FF03A4A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5427C-1852-42E1-8F94-70820DD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D6F1B-744F-42E2-838F-3F4CF2BE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CFC8-8E29-44AD-81EB-B1C22B0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AE7C-A60B-4487-95D7-FEBA9FD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684D-5A21-427C-9354-9171083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4033-5B5F-4AEC-8DC7-3299D16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146-1ED3-4042-992C-442A7B6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105D3-F943-472B-B8DC-21EDE608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5F19-5957-48DE-93E5-27FC74D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09E5-3C17-4DB7-BB66-D61B211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3D4E-2E83-4805-8FB0-326C7164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C402-6D65-4AD4-BD63-904407A1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FE08C-8EA0-424B-B35C-1C81ED3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0B91-C10C-48A5-840E-1CF0EA0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D830-4CDE-4FAF-823B-19424F1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494C-D480-4B85-B838-31469E9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0A85C-0D45-44A4-B914-B73A4D4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072-8148-460B-BB93-7957847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8D21-2733-4A41-A695-2176E6DD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C930-0434-4EE0-8EBB-CA524721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85B0A-8EF2-48D1-A2AE-B94BE96A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BDCF7-A759-44C8-8310-F625C722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1CAA7-5FB1-4A39-B3A0-3A757202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44F5-76F5-48D9-BB83-FAF088E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5FCD6-680D-4A4C-BED7-33BEFA05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7E06-CEBA-4EFE-BCFF-D07F7A45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C79D4-B79D-4A1E-BBE3-6584718A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7180-726A-4ACC-A9B8-28BF95A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704-FFC6-4171-B092-AD5E4B6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1B54-8004-4176-B5CF-C183EAE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41A4-E04F-4D28-925B-731C9AA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C5EF-3795-4DF6-A497-49F3A21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07807-A96F-47A3-8067-0D9580DD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A748-6413-4899-B32C-4679EC25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8E201-A48B-4D2E-BE00-3DFCC764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0420-25E4-47D4-8E2F-A578E8DF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854D-A12F-4A0B-9B2F-FCF584A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65E66-23DC-4CB1-8DFE-459D3ADA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32194-2E2A-4647-B916-8B2CA5E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E32-5A7C-4AD8-8ECD-93F339E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E390-1BA9-4E1C-8807-516D4373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D6F7-89D3-4AEB-8272-680E81C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DCDFB-3C52-4406-96D3-5CFB6F9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5D2D-B033-4872-94E0-A6BE842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E700-1145-48D8-8292-EEEA9BB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20CE6-09C1-4F93-80DB-1B82043D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2FC1-08C5-4488-A141-78E1A872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41464-47A1-4278-96D4-72426637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3370E-2D31-49F6-8854-98112AA5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2DB4E-28CD-4537-8699-56BD5214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AEF7-988E-4AC5-B73D-BE87D6AFDB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BDE-B85E-441B-8B15-24D0E26AFD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4D5-A2F3-49B2-972E-8B248832E7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0A14-9EEB-46FE-9FC9-BD100856DD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941F-D544-471D-B8AA-4016113659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65A-6716-4C5E-A030-458E4FDBB8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6320-591E-4364-9F0C-77ADF9C6B7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7D64-3BAA-4A01-8A19-777120FC20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0D2-A89F-44A5-8F1D-A6123C3766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658800" y="878040"/>
            <a:ext cx="8021520" cy="26398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47728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Рекомендации для родителе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214280" y="442908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3"/>
          <a:stretch/>
        </p:blipFill>
        <p:spPr>
          <a:xfrm>
            <a:off x="5857920" y="442908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4"/>
          <a:stretch/>
        </p:blipFill>
        <p:spPr>
          <a:xfrm>
            <a:off x="3714840" y="442908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689040" y="-66600"/>
            <a:ext cx="8028000" cy="146196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3"/>
          <p:cNvSpPr/>
          <p:nvPr/>
        </p:nvSpPr>
        <p:spPr>
          <a:xfrm>
            <a:off x="642960" y="30718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оказать им помощь в распределении учебного материала по дням, - в определении еженедельной нагрузки, - в составлении план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омогает справиться с тревогой: школьник начинает понимать, что успеть выучить весь материал вполне реально, у него достаточно времени для этого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1665000" cy="164340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9"/>
          <p:cNvSpPr/>
          <p:nvPr/>
        </p:nvSpPr>
        <p:spPr>
          <a:xfrm>
            <a:off x="2857680" y="128592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часто волнуются, т.к. им кажется, что объем материала очень большой, и они не успеют все выучить к экзамена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7954920" cy="100008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571680" y="32148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школьник имел возможность отдохнуть, сменить деятельность. Но, например, компьютерные игры только увеличивают усталость. Очень важно помоч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такую форму досуга, которая бы школьника не переутомляла: прогулки, общение с одним-двумя друзьями и т.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также необходимо дел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перерывы на 10-15 минут каждые 45-60 мин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необходимо для сохранения высокой работоспособност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1143000" y="1285920"/>
            <a:ext cx="2463840" cy="1643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3"/>
          <a:stretch/>
        </p:blipFill>
        <p:spPr>
          <a:xfrm>
            <a:off x="4000680" y="1285920"/>
            <a:ext cx="1090440" cy="16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4"/>
          <a:stretch/>
        </p:blipFill>
        <p:spPr>
          <a:xfrm>
            <a:off x="5572080" y="1285920"/>
            <a:ext cx="24051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8094600" cy="1036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2"/>
          <a:stretch/>
        </p:blipFill>
        <p:spPr>
          <a:xfrm>
            <a:off x="714240" y="15717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5"/>
          <p:cNvSpPr/>
          <p:nvPr/>
        </p:nvSpPr>
        <p:spPr>
          <a:xfrm>
            <a:off x="3643200" y="1428840"/>
            <a:ext cx="49294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рмального самочувствия и хорошей работоспособности необходимо, чтобы ребенок хорошо высыпался. Не разрешайте детям учить целыми днями  или ночами, так как это ведет к раздражительности, быстрой утомляемости, беспокойству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оянии утомления работоспособность снижается, а продуктивность такой учебы невелика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857160" y="4929120"/>
            <a:ext cx="7786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 за тем, чтобы накануне экзамена ваш ребенок обязательно отдохнул и как следует выспался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689040" y="92160"/>
            <a:ext cx="7596000" cy="111420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4"/>
          <p:cNvSpPr/>
          <p:nvPr/>
        </p:nvSpPr>
        <p:spPr>
          <a:xfrm>
            <a:off x="857160" y="3929040"/>
            <a:ext cx="7786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, а во время экзаменов особенно, заботьтесь об организации полноценного питания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родукты, как овощи, фрукты, рыба, творог, орехи, шоколад и т.д. стимулируют работу головного мозга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5" descr="ar117573716816324"/>
          <p:cNvPicPr/>
          <p:nvPr/>
        </p:nvPicPr>
        <p:blipFill>
          <a:blip r:embed="rId2"/>
          <a:stretch/>
        </p:blipFill>
        <p:spPr>
          <a:xfrm>
            <a:off x="6858000" y="1428840"/>
            <a:ext cx="1785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big_3804"/>
          <p:cNvPicPr/>
          <p:nvPr/>
        </p:nvPicPr>
        <p:blipFill>
          <a:blip r:embed="rId3"/>
          <a:stretch/>
        </p:blipFill>
        <p:spPr>
          <a:xfrm>
            <a:off x="5143680" y="2500200"/>
            <a:ext cx="1866600" cy="1214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2714760" y="1428840"/>
            <a:ext cx="1857240" cy="1071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"/>
          <p:cNvPicPr/>
          <p:nvPr/>
        </p:nvPicPr>
        <p:blipFill>
          <a:blip r:embed="rId5"/>
          <a:stretch/>
        </p:blipFill>
        <p:spPr>
          <a:xfrm>
            <a:off x="785880" y="2500200"/>
            <a:ext cx="2009880" cy="128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6"/>
          <a:stretch/>
        </p:blipFill>
        <p:spPr>
          <a:xfrm>
            <a:off x="785880" y="1428840"/>
            <a:ext cx="1979640" cy="10713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post-19-1243498283"/>
          <p:cNvPicPr/>
          <p:nvPr/>
        </p:nvPicPr>
        <p:blipFill>
          <a:blip r:embed="rId7"/>
          <a:stretch/>
        </p:blipFill>
        <p:spPr>
          <a:xfrm>
            <a:off x="2763720" y="2500200"/>
            <a:ext cx="1808280" cy="12859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25"/>
          <p:cNvSpPr/>
          <p:nvPr/>
        </p:nvSpPr>
        <p:spPr>
          <a:xfrm>
            <a:off x="2330640" y="1071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лки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6" name="Picture 9" descr="i"/>
          <p:cNvPicPr/>
          <p:nvPr/>
        </p:nvPicPr>
        <p:blipFill>
          <a:blip r:embed="rId8"/>
          <a:stretch/>
        </p:blipFill>
        <p:spPr>
          <a:xfrm>
            <a:off x="5143680" y="1428840"/>
            <a:ext cx="1753920" cy="1071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3151_tqfz oyww fxi"/>
          <p:cNvPicPr/>
          <p:nvPr/>
        </p:nvPicPr>
        <p:blipFill>
          <a:blip r:embed="rId9"/>
          <a:stretch/>
        </p:blipFill>
        <p:spPr>
          <a:xfrm>
            <a:off x="6715080" y="2500200"/>
            <a:ext cx="1928880" cy="12146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9"/>
          <p:cNvSpPr/>
          <p:nvPr/>
        </p:nvSpPr>
        <p:spPr>
          <a:xfrm>
            <a:off x="6510240" y="1071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итамины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Picture 12" descr="30"/>
          <p:cNvPicPr/>
          <p:nvPr/>
        </p:nvPicPr>
        <p:blipFill>
          <a:blip r:embed="rId10"/>
          <a:stretch/>
        </p:blipFill>
        <p:spPr>
          <a:xfrm>
            <a:off x="3929040" y="542916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"/>
          <p:cNvPicPr/>
          <p:nvPr/>
        </p:nvPicPr>
        <p:blipFill>
          <a:blip r:embed="rId11"/>
          <a:stretch/>
        </p:blipFill>
        <p:spPr>
          <a:xfrm>
            <a:off x="2500200" y="542916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689040" y="49320"/>
            <a:ext cx="7881840" cy="10969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4"/>
          <p:cNvSpPr/>
          <p:nvPr/>
        </p:nvSpPr>
        <p:spPr>
          <a:xfrm>
            <a:off x="857160" y="3143160"/>
            <a:ext cx="7572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прос непростой, потому что иногда школьники начинают манипулировать своей учебой, чтобы избежать помощи по дому. Легкая физическая работа может выступать в роли разгрузки, позволяющей сменить деятельность и отдохнуть, а может только усиливать общее утомление, поэтом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о помощи по дому нужно решать в индивидуальном порядке с учетом особенностей ребен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2"/>
          <a:stretch/>
        </p:blipFill>
        <p:spPr>
          <a:xfrm>
            <a:off x="5929200" y="114300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"/>
          <p:cNvPicPr/>
          <p:nvPr/>
        </p:nvPicPr>
        <p:blipFill>
          <a:blip r:embed="rId3"/>
          <a:stretch/>
        </p:blipFill>
        <p:spPr>
          <a:xfrm>
            <a:off x="3143160" y="1143000"/>
            <a:ext cx="2679840" cy="1781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"/>
          <p:cNvPicPr/>
          <p:nvPr/>
        </p:nvPicPr>
        <p:blipFill>
          <a:blip r:embed="rId4"/>
          <a:stretch/>
        </p:blipFill>
        <p:spPr>
          <a:xfrm>
            <a:off x="1714680" y="1143000"/>
            <a:ext cx="1228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689040" y="139680"/>
            <a:ext cx="7742160" cy="9763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"/>
          <p:cNvSpPr/>
          <p:nvPr/>
        </p:nvSpPr>
        <p:spPr>
          <a:xfrm>
            <a:off x="214200" y="3227040"/>
            <a:ext cx="850104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определенный уровень тревоги, оптимальный для организации деятельности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чень высокий уровень волнения мешает учебной деятельности. Все силы уходят на то, чтобы справиться с волнением. Это особенно характерно для детей тревожных, склонных переживать даже без особого повода (например, когда родители сильно переживают, пьют валерьянку, их дети как бы заражаются этим напряжением и тревогой)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2143080" cy="159552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4"/>
          <p:cNvSpPr/>
          <p:nvPr/>
        </p:nvSpPr>
        <p:spPr>
          <a:xfrm>
            <a:off x="3000240" y="150012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настрой играет важную роль при подготовке и прохождении ГИА, т.к. период экзаменов для большинства выпускников является очень тревожным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"/>
          <p:cNvSpPr/>
          <p:nvPr/>
        </p:nvSpPr>
        <p:spPr>
          <a:xfrm>
            <a:off x="785880" y="47156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Прямоугольник 2"/>
          <p:cNvSpPr/>
          <p:nvPr/>
        </p:nvSpPr>
        <p:spPr>
          <a:xfrm>
            <a:off x="500040" y="92880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моционально спокойной, ненапряженной атмосферы (для тревож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(для неуверен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начимости экзамена: следует дать понять, что ничего страшного не произойдет, даже если результат будет не совсем таким, каким хотелось бы (особенно в том случае, если обучающийся очень ответственный и старается соответствовать ожиданиям взрослых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значимости экзамена (для гиперактивных детей, испытывающих недостаток произвольности и самоорганизации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ого, в какой помощи нуждается именно ваш ребенок (например, выслушать выученные им темы или помочь написать планы и конспекты)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Прямоугольник 3"/>
          <p:cNvSpPr/>
          <p:nvPr/>
        </p:nvSpPr>
        <p:spPr>
          <a:xfrm>
            <a:off x="1285920" y="357120"/>
            <a:ext cx="68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ЗАДАЧИ РОДИТЕЛЕЙ: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ed"/>
            </a:gs>
            <a:gs pos="50000">
              <a:srgbClr val="fff7ab"/>
            </a:gs>
            <a:gs pos="100000">
              <a:srgbClr val="dbdbe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6920" y="1773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Заголовок 3" descr=""/>
          <p:cNvPicPr/>
          <p:nvPr/>
        </p:nvPicPr>
        <p:blipFill>
          <a:blip r:embed="rId1"/>
          <a:stretch/>
        </p:blipFill>
        <p:spPr>
          <a:xfrm>
            <a:off x="4157640" y="1073160"/>
            <a:ext cx="4767120" cy="5357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3219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9ff"/>
            </a:gs>
            <a:gs pos="100000">
              <a:srgbClr val="ffb9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4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358120" cy="10969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6"/>
          <p:cNvSpPr/>
          <p:nvPr/>
        </p:nvSpPr>
        <p:spPr>
          <a:xfrm>
            <a:off x="357120" y="1285920"/>
            <a:ext cx="8501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полноте и прочности своих знани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собственных способностях: умении логически мыслить, анализировать, концентрировать и распределять внимание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страх перед экзаменом в силу личностных особенностей - тревожности, неуверенности в себе, астеничности (быстрой утомляемости) и т.д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тся незнакомой, неопределенной ситуаци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повышенную ответственность перед родителями и школо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этих причин может в той или иной степени влиять на состояние вашего ребен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86800" cy="1122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54120"/>
            <a:ext cx="85532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экзаменационную пору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ая задач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дителей – создать комфор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ловия для подготовки обучающегося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шать ем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, поощрение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ая помощь, спокойствие взрослы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могают школьнику успешно справиться с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бственным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лнение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281160"/>
            <a:ext cx="8699400" cy="1114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0" y="3429000"/>
            <a:ext cx="8501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 обучающегося– значит верить в него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зрослые имеют немало возможностей, чтобы продемонстрировать обучающемуся свое удовлетворение от его достижений или  усилий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2522520" cy="214308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8"/>
          <p:cNvSpPr/>
          <p:nvPr/>
        </p:nvSpPr>
        <p:spPr>
          <a:xfrm>
            <a:off x="3214800" y="1285920"/>
            <a:ext cx="5429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 – это один из важнейших факторов, определяющих успешность выпускника в сдаче государственной (итоговой) аттестации.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66600" y="212760"/>
            <a:ext cx="8832960" cy="10000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уществуют слова, которые поддерживают детей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например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ы сможешь это сделать», «Зная тебя, я уверен, что ты вс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аешь хорошо», «Ты знаешь это очень хорошо», «Все у тебя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учится», «Не боги горшки обжигали» и т.д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сын или дочь сильно волнуются, лучше заранее рассказать 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ожных вариантах пересдачи, вариантах развития событий 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лучае не самого лучшего исхода («Да, итоговый экзамен очен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жен, но при неудачной сдаче ГИА жизнь не остановится», «Век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иви, век учись»)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можно посредством прикосновений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брожелательного выражения лица, интонации голоса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также посредством совместных  усилий в подготовк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04920" y="1000080"/>
            <a:ext cx="82677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ходе подготовки к экзаменам родители нередк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уют тактику запугивания 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ало занимаешься – не сдашь», «Не стараешься – буду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охие результаты», «Ты совсем не готов», «Это так сложно»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т.п.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ая тактика не повышает мотивацию, а созда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моциональные барьеры, которые школьник не мож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стоятельно преодолеть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428760" y="5000760"/>
            <a:ext cx="2214360" cy="1500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072040" y="50007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3"/>
          <a:stretch/>
        </p:blipFill>
        <p:spPr>
          <a:xfrm>
            <a:off x="2786040" y="5000760"/>
            <a:ext cx="2151000" cy="1500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"/>
          <p:cNvPicPr/>
          <p:nvPr/>
        </p:nvPicPr>
        <p:blipFill>
          <a:blip r:embed="rId4"/>
          <a:stretch/>
        </p:blipFill>
        <p:spPr>
          <a:xfrm>
            <a:off x="7095960" y="5000760"/>
            <a:ext cx="1810080" cy="1357200"/>
          </a:xfrm>
          <a:prstGeom prst="rect">
            <a:avLst/>
          </a:prstGeom>
          <a:ln w="0">
            <a:noFill/>
          </a:ln>
        </p:spPr>
      </p:pic>
      <p:sp>
        <p:nvSpPr>
          <p:cNvPr id="429" name="TextBox 7"/>
          <p:cNvSpPr/>
          <p:nvPr/>
        </p:nvSpPr>
        <p:spPr>
          <a:xfrm>
            <a:off x="568080" y="357120"/>
            <a:ext cx="81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ОШИБКИ, КОТОРЫЕ СЛЕДУЕТ ИЗБЕГАТЬ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4" descr=""/>
          <p:cNvPicPr/>
          <p:nvPr/>
        </p:nvPicPr>
        <p:blipFill>
          <a:blip r:embed="rId1"/>
          <a:stretch/>
        </p:blipFill>
        <p:spPr>
          <a:xfrm>
            <a:off x="444600" y="1139760"/>
            <a:ext cx="8424720" cy="5181840"/>
          </a:xfrm>
          <a:prstGeom prst="rect">
            <a:avLst/>
          </a:prstGeom>
          <a:ln w="0">
            <a:noFill/>
          </a:ln>
        </p:spPr>
      </p:pic>
      <p:pic>
        <p:nvPicPr>
          <p:cNvPr id="431" name="Title 1" descr=""/>
          <p:cNvPicPr/>
          <p:nvPr/>
        </p:nvPicPr>
        <p:blipFill>
          <a:blip r:embed="rId2"/>
          <a:stretch/>
        </p:blipFill>
        <p:spPr>
          <a:xfrm>
            <a:off x="324000" y="237960"/>
            <a:ext cx="85215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19240" y="1212840"/>
            <a:ext cx="8716680" cy="5218200"/>
          </a:xfrm>
          <a:prstGeom prst="rect">
            <a:avLst/>
          </a:prstGeom>
          <a:ln w="0">
            <a:noFill/>
          </a:ln>
        </p:spPr>
      </p:pic>
      <p:pic>
        <p:nvPicPr>
          <p:cNvPr id="433" name="Title 1" descr=""/>
          <p:cNvPicPr/>
          <p:nvPr/>
        </p:nvPicPr>
        <p:blipFill>
          <a:blip r:embed="rId2"/>
          <a:stretch/>
        </p:blipFill>
        <p:spPr>
          <a:xfrm>
            <a:off x="324000" y="237960"/>
            <a:ext cx="85215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5:58:35Z</dcterms:created>
  <dc:creator>Александра Веснина</dc:creator>
  <dc:description/>
  <dc:language>en-US</dc:language>
  <cp:lastModifiedBy>ЮрковаИА</cp:lastModifiedBy>
  <dcterms:modified xsi:type="dcterms:W3CDTF">2017-05-01T08:54:39Z</dcterms:modified>
  <cp:revision>269</cp:revision>
  <dc:subject/>
  <dc:title>Психологическая подготовка учащихся к экзаменам (ЭГЭ)</dc:title>
</cp:coreProperties>
</file>